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434-7EA5-4393-8CE0-68922CB5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D56-F881-46A3-82A3-D0805B0F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B49-AA28-4647-BBFF-BC74A8A1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ADA-EA0E-4BC7-B632-F2CC36D4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3AC-FF2A-4550-AC6B-CF612CDE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AB1-9749-4389-A562-598B79D0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FB4-B77A-4712-8B76-CDA6F8A4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B07-E268-44BD-A44D-7340CB29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904-3654-4AAC-B5FE-CF034987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705-80CE-4287-A275-BBE908D6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55A1-9FBD-4878-9253-77D207E2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118-066C-49A6-B26C-B34561E8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D7CB-6735-4E83-A5C6-7372CEEB72F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2B28-69FB-4DDF-B705-ECA13639318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7evdsc0K8c&amp;t=3396s" TargetMode="External"/><Relationship Id="rId2" Type="http://schemas.openxmlformats.org/officeDocument/2006/relationships/hyperlink" Target="https://www.youtube.com/watch?v=B7evdsc0K8c&amp;t=3396s" TargetMode="External"/><Relationship Id="rId3" Type="http://schemas.openxmlformats.org/officeDocument/2006/relationships/hyperlink" Target="https://www.youtube.com/watch?v=B7evdsc0K8c&amp;t=3396s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0177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Calibri Light"/>
              </a:rPr>
              <a:t>MANUAL </a:t>
            </a:r>
            <a:br>
              <a:rPr sz="6000"/>
            </a:br>
            <a:r>
              <a:rPr b="0" lang="pt-BR" sz="6000" spc="-1" strike="noStrike">
                <a:solidFill>
                  <a:srgbClr val="000000"/>
                </a:solidFill>
                <a:latin typeface="Calibri Light"/>
              </a:rPr>
              <a:t>SERVIÇO DE LITERATUR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88908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MPLANTA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PERFEIÇOA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2.2 ESTOQU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1825560"/>
            <a:ext cx="10515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compra inicial de produtos para compor o estoque do serviço de literatura pode ser feita utilizando-se a classificação temática, assim, todas as faixas etárias serão supridas. Atualmente a Editora Árvore da Vida possui a seguinte classificação temática, na qual os produtos estão inserido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Lançamento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Oração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Vida cristã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Devocional e biografi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grej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Lideranç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Família e joven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nfantojuveni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angelismo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omentário bíblico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Ds. 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1521-30DE-4D1A-A9E4-89D1FA500C3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2.2 ESTOQU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560"/>
            <a:ext cx="10515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aso o serviço disponha de programa para baixa automática de estoque no momento da venda, o estoque será monitorado em tempo re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s fichas de atendimento podem ser utilizadas para anotação de pedidos de produtos que não foram encontrados no serviço de literatura, assim os irmãos podem ter suas necessidades suprid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8571-9F63-46A5-B950-F096E3CD23F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2.3 CAIX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825560"/>
            <a:ext cx="10515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 caixa é o local destinado para o recebimento e guarda das fichas especificas de atendimento e dinheiro dos pagamentos das compras realizadas, ou seja, no caixa estão todos os registros do serviço de literat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comenda-se que no caixa haja uma certa quantia em dinheiro para que sirva de troco, facilitando o processo de cobrança. Outro item que pode facilitar os pagamentos são as máquinas de cartão de crédito/débito, pois atualmente muitos irmãos optam por esse tipo de pagament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aso o serviço não disponha de Software de Controle Financeiro e de Estoque (ideal), o preenchimento adequado das fichas de controle de produtos vendidos é imprescindível, assim, no fechamento do caixa será possível conferir se o dinheiro que entrou é condizente com os preços dos produtos que saír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2BC2-5131-49C4-8B55-A5C2EC47288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2.4 MÓVEIS/ESPAÇO FÍSIC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1825560"/>
            <a:ext cx="10515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ugere-se que o serviço de literatura fique em um local visível e que os móveis a serem utilizados sejam dispostos em locais que não atrapalhem o fluxo dos irmãos, facilitando o acesso aos produtos expos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comenda-se que sejam utilizados estantes, mesas e balcões para expor todos os materiais divididos por categorias, mencionadas no item estoque (2.2). Recomenda-se a confecção de placas com os nomes das categorias para serem afixadas nos móveis, facilitando, assim, que os irmãos encontrem os produto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decoração dos móveis pode ser realizada com os próprios produtos a serem expostos, como por exemplo, montar “torres” com os livros do mesmo título, fazer “espiral” com os livros de títulos diferentes ou utilizar porta livros de acrílico ou plástic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produtos das categorias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LANÇAMENTO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ANGELISMO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odem ficar em destaque nos móveis e serem decorados com luzes para atrair a atenção dos irmã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79D7-284D-49F7-9935-2C397445123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2.5 MARKETING/VENDA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560"/>
            <a:ext cx="10515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ugere-se que o serviço de literatura utilize banners, panfletos, telão e/ou televisão para a divulgação dos produtos e promoções por meio de artes gráficas e víde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 marketing tende a funcionar como suporte para as vendas, portanto recomenda-se que, principalmente, os lançamentos e produtos de evangelismo (JAV, folhetos, etc.) sejam divulgados por meio dos materiais mencionados anteriormen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coordenação do Serviço de Literatura precisa auxiliar os irmãos responsáveis da igreja, cooperadores e responsáveis pela palavra e pelos avisos. Exemplares dos livros, com avisos impressos, devem ser passados para esses irmãos. Eles precisam ser ajudados pela coordenação do Serviço de Literatura e respirar o que os irmãos do serviço respiram. Dessa forma o serviço fluirá com mais impacto e eficiê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ode-se aproveitar o momento dos avisos ao final das reuniões para reforçar a divulgação de determinados produtos e promoções.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78E3-09D5-46B8-ABD1-123BF766A6A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3. PROGRAMA – O LIVRO NA MINHA MÃO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825560"/>
            <a:ext cx="10515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ugere-se que o serviço de literatura realize um planejamento anual para o início do programa que terá duração de 12 meses, sendo que a cada mês será entregue um livro mediante o pagamento de valor mensal pré-determina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gestão do programa pode ser feita por meio de planilhas de Excel, anotações em livro caixa, carnês, cartão fidelidade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comenda-se a utilização de banners, panfletos, telão e/ou televisão para a divulgação do programa por meio dos lançamentos e do JAV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 programa – O Livro na Minha Mão tem como objetivo facilitar o acesso dos irmãos à literatura saudável, em especial, aos últimos lançamentos. Mediante pagamento de R$ 25,00 mensal, o participante receberá, em cada bimestre, um livro novo. No final de um semestre de contribuição, o participante receberá os três volumes do alimento diário e no final de um ano, receberá como cortesia uma assinatura anual do Jornal Árvore da Vi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5653-693B-476D-B062-3CBAE0E40CC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4. JORNAL ÁRVORE DA VI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557360"/>
            <a:ext cx="1051560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 Serviço de Literatura deve disponibilizar pacotes com 10 exemplares. Isso com respeito ao JAV como semente para distribuição pelos irmãos. Como pão, o Serviço deve ter cupons de assinatura e estimular os irmãos a fazerem assinatura para si e para presentear outros. Embora em algumas regiões as igrejas tenham conseguido incluir a assinatura do JAV no programa O livro na minha mão.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E6C5-9407-4B04-9F1A-C94ED84B8B0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ítulo 1"/>
          <p:cNvSpPr/>
          <p:nvPr/>
        </p:nvSpPr>
        <p:spPr>
          <a:xfrm>
            <a:off x="838080" y="33274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5. ALIMENTO DIÁ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Conteúdo 2"/>
          <p:cNvSpPr/>
          <p:nvPr/>
        </p:nvSpPr>
        <p:spPr>
          <a:xfrm>
            <a:off x="838080" y="4421160"/>
            <a:ext cx="10515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 Serviço de Literatura deve ficar atento às datas dos lançamentos das novas séries do Alimento Diário para fazer uma boa divulgação na igreja a fim de que todos os irmãos sejam alcançados e encorajados a fazer ou renovar suas assinaturas. Embora em algumas regiões as igrejas tenham conseguido incluir a assinatura do Alimento Diário no programa O livro na minha m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6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Calibri Light"/>
              </a:rPr>
              <a:t>SUMÁRIO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396880" y="1831680"/>
            <a:ext cx="739764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1. ENCARGO ESPIRITUAL..................................................................................................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2. PLANEJAMENTO........................................................................................................... 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2.1 EQUIPE DE SERVIÇO................................................................................................... 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2.2 ESTOQUE..................................................................................................................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2.3 CAIXA........................................................................................................................ 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2.4 MÓVEIS/ESPAÇO FÍSICO........................................................................................... 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2.5 MARKETING/VENDAS..............................................................................................  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3. PROGRAMA – O LIVRO NA MINHA MÃO................................................................... 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4. JORNAL ÁRVORE DA VIDA..........................................................................................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5. ALIMENTO DIÁRIO......................................................................................................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1. ENCARGO ESPIRITUA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 livro de Neemias fala da reconstrução dos muros de Jerusalém, depois de anos de cativeiro na Babilônia, após o decreto de Artaxerxes, e nesse contexto vemos no capítulo 8, versículo 1: “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Em chegando o sétimo mês, e estando os filhos de Israel nas suas cidades, todo o povo se ajuntou como um só homem, na praça, diante da Porta das Águas; e disseram a Esdras, o escriba, que trouxesse o Livro da Lei de Moisés, que o SENHOR tinha prescrito a Israel.”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Muitas dessas pessoas, que vemos no versículo 1, tinham nascido na Babilônia e nunca tinham visto Jerusalém, elas tinham uma constituição babilônica, tinham costumes da Babilônia, mas ao voltarem para Jerusalém elas têm, primeiramente, o contato com a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ALAVRA DE DEUS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ara serem renovadas e limpas da contaminação da alimentação, da cultura e dos costumes da Babilôni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m 2 Crônicas 20:20 vemos que Deus fala por meio de seus profetas e esse falar gera um mover levando o Seu povo adiante.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Crede no SENHOR, vosso Deus, e estareis seguros; crede nos seus profetas e prosperareis.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HOJ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, por meio da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LITERATURA CRISTÃ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o povo de Deus é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RESTAURAD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e recebe a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ALAVRA PROFÉTICA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, que dá direção acerca da Sua economi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1E1F-6BAA-4B2C-8DE7-4D9DA03887B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1. ENCARGO ESPIRITUA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Nos versículos 8-10, vemos: “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Leram no livro, na Lei de Deus, claramente, dando explicações, de maneira que entendessem o que se lia. Neemias, que era o governador, e Esdras, sacerdote e escriba, e os levitas que ensinavam todo o povo lhe disseram: Este dia é consagrado ao SENHOR, vosso Deus, pelo que não pranteeis, nem choreis. Porque todo o povo chorava, ouvindo as palavras da Lei. Disse-lhes mais: ide, comei carnes gordas, tomai bebidas doces e enviai porções aos que não têm nada preparado para si; porque este dia é consagrado ao nosso Senhor; portanto, não vos entristeçais, porque a alegria do SENHOR é a vossa força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 versículo 12, nos encoraja a ler os livros e compartilhar com outros: “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Então, todo o povo se foi a comer, a beber, a enviar porções e a regozijar-se grandemente, porque tinham entendido as palavras que lhes foram explicada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.” Uma igreja que desfruta da palavra do Senhor possui alegria, regozijo e paz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B794-F435-4B60-B068-01D490882BE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1. ENCARGO ESPIRITUA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 João 6:57 vemos que o alimento é importante para poder viver pelo Senhor e a palavra de Deus, que há nos livros, é o alimento que irá suprir os irmãos para que vivam pelo Senhor.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Assim como o Pai, que vive, me enviou, e igualmente eu vivo pelo Pai, também quem de mim se alimenta por mim viverá.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ovérbios 29:18 nos mostra que sem o falar profético o povo se corrompe mas, graças ao Senhor, hoje temos o falar profético dando direção para o cumprimento de Sua economia.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Não havendo profecia, o povo se corrompe; mas o que guarda a lei, esse é feliz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entro deste contexto vemos a importância do serviço de literatura das igrejas, pois possui a função de levar o falar atual de Deus por meio dos livros até as pesso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F369-5041-43C7-81D3-5DF10A8A98C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2. PLANEJAMEN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 planejamento para a implantação do serviço de literatura nas igrejas deve comtemplar alguns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tens básicos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ara que haja um bom funcionamento do serviço e os produtos cheguem nas mãos dos irmãos. Segue link para vídeo de apoio para realização de aperfeiçoamento do serviço de literatur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</a:t>
            </a:r>
            <a:r>
              <a:rPr b="0" lang="pt-BR" sz="22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</a:t>
            </a:r>
            <a:r>
              <a:rPr b="0" lang="pt-BR" sz="2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youtube.com/watch?v=B7evdsc0K8c&amp;t=3396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ada igreja deve considerar as suas particularidades e adequar a sua realidade, ou seja, se for necessário itens devem ser incluídos ou retirados do planejame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itens a seguir devem fazer parte do planejamen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quipe de serviço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stoqu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aix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Móveis/Espaço físico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Marketing/Vend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2F26-316D-474B-B065-17462FD8794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2.1 EQUIPE DE SERVIÇ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equipe de serviço deve ser formada por irmãos e irmãs que estejam desfrutando da palavra para que o serviço seja de excelência e com entusiasmo. O resultado de um serviço de excelência é o encargo pelos livros e pelos irmã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comenda-se que a cada semana exista uma equipe de serviço para atender os irmãos. Portanto, é aconselhável 4 equipe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e 2 ou mais irmãos cada, para formar o serviço de literatur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 horário de encontro da equipe de serviço pode ocorrer de 30-60 minutos antes do início das reuniões e nesse período de tempo os irmãos podem se dedicar a algumas tarefas, tais com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Oração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rar pelo serviço, pelos irmãos, pelos profetas, pela reunião, etc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stoque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posição dos produtos, caso haja necessidad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F4BB-0538-406D-84CD-A8805C61FA6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2.1 EQUIPE DE SERVIÇ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aixa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ontar o dinheiro do troco do caix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Limpeza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tirar poeira dos livro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rrumação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rrumar os móveis e livros, caso exista a necessidade de montar e desmontar a exposição dos produto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s tarefas mencionadas acima serão abordadas posteriormente com um detalhamento mai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 atendimento realizado pela equipe de serviço será abordado a seguir e trará exemplos práticos, para que haja excelência e entusiasmo na sua realizaçã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FE23-9AF6-4EF4-B34A-7B86951E037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2.1 EQUIPE DE SERVIÇ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baixo seguem algumas atitudes, no momento do atendimento, que podem ser praticadas para que os irmãos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 sejam bem atendidos e as suas necessidades suprida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bordagem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tratar os irmãos com amor, cuidado e atenção e perguntar em que você pode ajudá-lo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Atenção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nesse momento os irmãos precisam ser ouvidos para que as suas necessidades sejam evidenciad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Sugestão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pós ouvir com atenção os irmãos, podemos sugerir livros que atendam as suas necessidad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Venda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e for self-service o cliente pode escolher o livro e se dirigir ao caixa para pagamento. Caso o serviço não disponha de programa para baixa automática de estoque no momento da venda, um integrante da equipe deve anotar em ficha específica o(s) produto(s) para posterior conferência do caixa e baixa no estoqu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bs.: quanto mais facilitar o processo, melhor será para o serviço e para o cliente. Mas essa facilidade não significa falta de controle.</a:t>
            </a:r>
            <a:r>
              <a:rPr b="1" i="1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ço Reservado para Rodapé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Manual - Serviço de Li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ço Reservado para Número de Slide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54F2-9F4F-4C79-A002-6863DE23D01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4T10:08:27Z</dcterms:created>
  <dc:creator>Lucas Machado Creste</dc:creator>
  <dc:description/>
  <dc:language>en-US</dc:language>
  <cp:lastModifiedBy>Paula Claudino</cp:lastModifiedBy>
  <dcterms:modified xsi:type="dcterms:W3CDTF">2018-11-23T21:24:30Z</dcterms:modified>
  <cp:revision>52</cp:revision>
  <dc:subject/>
  <dc:title>SERVIÇO DE LITERATURA</dc:title>
</cp:coreProperties>
</file>